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jpeg" ContentType="image/jpeg"/>
  <Override PartName="/ppt/media/image12.wmf" ContentType="image/x-wmf"/>
  <Override PartName="/ppt/media/image8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041A-71DD-461E-B1D8-27B242213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D575-C94E-46E9-97D6-817F1959F3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285-97F9-4D3E-A717-5604AF577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1ABD-D590-4096-AB21-7A40DB985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CAC-6F55-4E3B-BA35-C4A9CED73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594-F1A5-4432-A45A-03120650F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29BB-A976-4751-BB90-9C36D9998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1B0-0500-44F8-8331-81B2A418AB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B59-2274-4F29-B714-EF17212E49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3D32-6557-4B5F-B045-B90543E5A1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77DC-5107-47A7-B5CB-85CC342DF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6A3-9BAB-40E8-B33F-002CB31D0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D97C-EB3C-4F94-A583-A18CD432BD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81D-F83E-406C-AC9D-25FF82E0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2DF-7C9E-4B00-8191-69F493B9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238-2B66-428A-A50E-D4187B03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708-63F8-45D1-BE86-9ECC5938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561C-2299-493E-ADE6-4E1D12EF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8ADB-B653-4ECF-8D4F-412F93C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C8CB-F6F2-4129-8B5D-2DEBB9F9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4A98-C84C-45A9-BE18-94DD87B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D1A-E1C9-4B67-893F-E1DC4FFD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2CE-92DA-4BBA-936C-0C0D89FE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0D4A-BC4B-4141-91C8-D70A78E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367-4710-44E0-BE05-E68CD356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1CE5-70D9-4CB3-960D-8F7388E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6076-4262-4F40-9794-1E7B083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84D-6E62-458C-B19F-3FF4C539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A3AC-3DFF-4CB1-8447-519E6887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8AC-E567-4B0C-8F9C-4E9389BF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D70-32E2-4EEB-8D59-B57F111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108-ED40-4B09-B39C-EDD296DE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8FF-5976-401D-9057-8449310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D95-789A-41CC-927E-B5FAEE7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B8C-A2AA-4EB0-83E3-A0399E3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CBC-3176-43CC-AD35-E33FF0E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D07-F773-42D6-ADDE-C786306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36CF-AF82-4E3F-89A6-FDFA54FFB3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5D1C-9AB6-4588-BAD7-5876194245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79600" y="1087560"/>
            <a:ext cx="5864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Welcome t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Mrs. Williams’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“</a:t>
            </a: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Boot Camp”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Picture"/>
          <p:cNvPicPr/>
          <p:nvPr/>
        </p:nvPicPr>
        <p:blipFill>
          <a:blip r:embed="rId2"/>
          <a:stretch/>
        </p:blipFill>
        <p:spPr>
          <a:xfrm>
            <a:off x="304920" y="1676520"/>
            <a:ext cx="3352680" cy="39924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Aharoni"/>
                <a:ea typeface="Aharoni"/>
              </a:rPr>
              <a:t>How to Get my Attention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22" name="Picture 4" descr="MCj02979430000[1]"/>
          <p:cNvPicPr/>
          <p:nvPr/>
        </p:nvPicPr>
        <p:blipFill>
          <a:blip r:embed="rId1"/>
          <a:stretch/>
        </p:blipFill>
        <p:spPr>
          <a:xfrm>
            <a:off x="533520" y="1371600"/>
            <a:ext cx="138420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MCj02979410000[1]"/>
          <p:cNvPicPr/>
          <p:nvPr/>
        </p:nvPicPr>
        <p:blipFill>
          <a:blip r:embed="rId2"/>
          <a:stretch/>
        </p:blipFill>
        <p:spPr>
          <a:xfrm>
            <a:off x="3886200" y="2971800"/>
            <a:ext cx="143820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895480" y="6019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et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MCj02979390000[1]"/>
          <p:cNvPicPr/>
          <p:nvPr/>
        </p:nvPicPr>
        <p:blipFill>
          <a:blip r:embed="rId3"/>
          <a:stretch/>
        </p:blipFill>
        <p:spPr>
          <a:xfrm>
            <a:off x="7238880" y="1219320"/>
            <a:ext cx="133200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6324480" y="44956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o to the Rest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1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Dismiss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ve Work/Exit progra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t away headphones proper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ighten keyboard/m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ather materials/tras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sh in chair and stand behind it until dismissed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C:\Users\dwilliams2\AppData\Local\Microsoft\Windows\Temporary Internet Files\Content.IE5\ZO097Q1G\MM900283848[1].gif"/>
          <p:cNvPicPr/>
          <p:nvPr/>
        </p:nvPicPr>
        <p:blipFill>
          <a:blip r:embed="rId1"/>
          <a:stretch/>
        </p:blipFill>
        <p:spPr>
          <a:xfrm>
            <a:off x="5562720" y="2057400"/>
            <a:ext cx="317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df"/>
                </a:solidFill>
                <a:latin typeface="bang whack pow"/>
              </a:rPr>
              <a:t>Lining Up Procedures</a:t>
            </a:r>
            <a:endParaRPr b="0" lang="en-US" sz="6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instructed by teach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le around to the lef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lk to the door in single fi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C:\Users\dwilliams2\AppData\Local\Microsoft\Windows\Temporary Internet Files\Content.IE5\IS9CPID6\MP900382689[1].jpg"/>
          <p:cNvPicPr/>
          <p:nvPr/>
        </p:nvPicPr>
        <p:blipFill>
          <a:blip r:embed="rId1"/>
          <a:stretch/>
        </p:blipFill>
        <p:spPr>
          <a:xfrm>
            <a:off x="177840" y="3809880"/>
            <a:ext cx="820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Attention Student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35" name="Picture 2" descr="http://www.scholastic.com/teachers/sites/default/files/posts/u24/images/az.cwk_.rocketship.jpg"/>
          <p:cNvPicPr/>
          <p:nvPr/>
        </p:nvPicPr>
        <p:blipFill>
          <a:blip r:embed="rId1"/>
          <a:stretch/>
        </p:blipFill>
        <p:spPr>
          <a:xfrm>
            <a:off x="1289160" y="12952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scholastic.com/teachers/sites/default/files/posts/u24/images/az.cwk_.satellite.jpg"/>
          <p:cNvPicPr/>
          <p:nvPr/>
        </p:nvPicPr>
        <p:blipFill>
          <a:blip r:embed="rId2"/>
          <a:stretch/>
        </p:blipFill>
        <p:spPr>
          <a:xfrm>
            <a:off x="4495680" y="13716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scholastic.com/teachers/sites/default/files/posts/u24/images/az.cwk_.launchpad.jpg"/>
          <p:cNvPicPr/>
          <p:nvPr/>
        </p:nvPicPr>
        <p:blipFill>
          <a:blip r:embed="rId3"/>
          <a:stretch/>
        </p:blipFill>
        <p:spPr>
          <a:xfrm>
            <a:off x="1289160" y="4038480"/>
            <a:ext cx="2628720" cy="2629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4850640" y="4648320"/>
            <a:ext cx="26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st Off”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to Work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85840" y="257184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c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53920" y="24955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tell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79360" y="5186520"/>
            <a:ext cx="9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Logging In and Ou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og In—One be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sten before Logging Out-Two bell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C:\Users\dwilliams2\AppData\Local\Microsoft\Windows\Temporary Internet Files\Content.IE5\253LA2QH\MP900382799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94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1d1df"/>
                </a:solidFill>
                <a:latin typeface="Amadeus"/>
              </a:rPr>
              <a:t>Drill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1960" y="1472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rnado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Blu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C:\Users\dwilliams2\AppData\Local\Microsoft\Windows\Temporary Internet Files\Content.IE5\IS9CPID6\MC900335182[1].wmf"/>
          <p:cNvPicPr/>
          <p:nvPr/>
        </p:nvPicPr>
        <p:blipFill>
          <a:blip r:embed="rId1"/>
          <a:stretch/>
        </p:blipFill>
        <p:spPr>
          <a:xfrm>
            <a:off x="4191120" y="2593800"/>
            <a:ext cx="39574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279600" y="1087560"/>
            <a:ext cx="5864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Enjoy your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ime in the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“</a:t>
            </a: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Boot Camp”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Picture"/>
          <p:cNvPicPr/>
          <p:nvPr/>
        </p:nvPicPr>
        <p:blipFill>
          <a:blip r:embed="rId2"/>
          <a:stretch/>
        </p:blipFill>
        <p:spPr>
          <a:xfrm>
            <a:off x="304920" y="1676520"/>
            <a:ext cx="3352680" cy="39924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990720" y="1295280"/>
            <a:ext cx="7162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Technology Lab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Rules &amp; Procedur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MCj04244440000[1]"/>
          <p:cNvPicPr/>
          <p:nvPr/>
        </p:nvPicPr>
        <p:blipFill>
          <a:blip r:embed="rId1"/>
          <a:stretch/>
        </p:blipFill>
        <p:spPr>
          <a:xfrm>
            <a:off x="6095880" y="1295280"/>
            <a:ext cx="2600280" cy="320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Arriv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Sanitize FIRST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Come in quiet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Move to you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igned compute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you are told to do so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Do not begin using the computer until told to do s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4160" y="-30528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thsCuteHmkBold"/>
              </a:rPr>
              <a:t>Be Nice to the Computer Lab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3" name="Picture 14" descr="http://ecx.images-amazon.com/images/I/51ccgc74c%2BL._SX300_.jpg"/>
          <p:cNvPicPr/>
          <p:nvPr/>
        </p:nvPicPr>
        <p:blipFill>
          <a:blip r:embed="rId1"/>
          <a:stretch/>
        </p:blipFill>
        <p:spPr>
          <a:xfrm>
            <a:off x="533520" y="1015920"/>
            <a:ext cx="77724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No food or drinks in the lab</a:t>
            </a:r>
            <a:br>
              <a:rPr sz="4400"/>
            </a:b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82080" cy="470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MCj04325380000[1]"/>
          <p:cNvPicPr/>
          <p:nvPr/>
        </p:nvPicPr>
        <p:blipFill>
          <a:blip r:embed="rId2"/>
          <a:stretch/>
        </p:blipFill>
        <p:spPr>
          <a:xfrm>
            <a:off x="3809880" y="2514600"/>
            <a:ext cx="3657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25560"/>
            <a:ext cx="8229600" cy="10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1df"/>
                </a:solidFill>
                <a:latin typeface="bang whack pow"/>
              </a:rPr>
              <a:t>Be Nice to the Computers Lab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5562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with permission ON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e and Print once, when tol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MMj01631220000[1]"/>
          <p:cNvPicPr/>
          <p:nvPr/>
        </p:nvPicPr>
        <p:blipFill>
          <a:blip r:embed="rId1"/>
          <a:stretch/>
        </p:blipFill>
        <p:spPr>
          <a:xfrm>
            <a:off x="5334120" y="5029200"/>
            <a:ext cx="2743200" cy="16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j04413410000[1]"/>
          <p:cNvPicPr/>
          <p:nvPr/>
        </p:nvPicPr>
        <p:blipFill>
          <a:blip r:embed="rId2"/>
          <a:stretch/>
        </p:blipFill>
        <p:spPr>
          <a:xfrm>
            <a:off x="-76320" y="14479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2743200" y="104616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screens clean, please do not tou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remove or load any softwa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can tilt over when moved, please do move the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gentle with mice &amp; headph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-6696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ve your area neat, clean, and organiz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28600" y="3552840"/>
            <a:ext cx="1828800" cy="10666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6400800" cy="3600360"/>
          </a:xfrm>
          <a:prstGeom prst="rect">
            <a:avLst/>
          </a:prstGeom>
          <a:ln w="76320">
            <a:solidFill>
              <a:srgbClr val="e0a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ang whack pow"/>
              </a:rPr>
              <a:t>Be Nice to Other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Help others with you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th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no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se!!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Keep your hands 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your computer on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Open only your wor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1" descr="MCj04257960000[1]"/>
          <p:cNvPicPr/>
          <p:nvPr/>
        </p:nvPicPr>
        <p:blipFill>
          <a:blip r:embed="rId1"/>
          <a:stretch/>
        </p:blipFill>
        <p:spPr>
          <a:xfrm>
            <a:off x="177840" y="3657600"/>
            <a:ext cx="29718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rlin Sans FB"/>
              </a:rPr>
              <a:t>Internet Rule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tay on approved websi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ver give out person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formatio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odel Good Digital Citizenshi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t all times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21430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3:01:56Z</dcterms:created>
  <dc:creator>Amber Coggin</dc:creator>
  <dc:description/>
  <dc:language>en-US</dc:language>
  <cp:lastModifiedBy>dell</cp:lastModifiedBy>
  <dcterms:modified xsi:type="dcterms:W3CDTF">2014-08-25T15:47:48Z</dcterms:modified>
  <cp:revision>31</cp:revision>
  <dc:subject/>
  <dc:title>Slide 1</dc:title>
</cp:coreProperties>
</file>